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EC3-8E8D-453B-A3DF-933138AB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2EB-5DFC-4190-A46E-E6CF508D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54F-5EB3-4991-B334-EDCD2DCF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649-7E9F-465C-938F-A06F25BF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1D31-6903-4355-9713-0E0D208B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1478-776C-4729-931A-955B89B0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7841-0D38-4D94-921B-73B65299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2BA5-4F94-4F04-A388-32397FB9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E9E9-04B3-42AC-B366-B4150900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BEDD-40F6-4B57-990E-22EE2215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758D-2AEB-484F-ADC4-D4338B46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018-80E7-4294-BC98-1E5E8FD6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1EDA-D035-4A0E-80DE-12DAB042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36C4-9FF0-46AF-9AE9-C9AB0BEC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C2F1-27BB-449C-869D-543CC3B4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90AF-8AFA-4088-BC99-BEEE3521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3DA8-080D-4876-9FE4-A3E2021C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E2A1-7221-4D70-9202-94459713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D3E-D6EA-49D7-8A20-0B48FC68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D9D4-A375-43E1-A074-47943659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B4E-2199-4A5A-82D8-E4E5A7E4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DE6-A48E-4757-A1E1-7BC4EB61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4AD-18CF-4984-9177-D067218B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E90-68C1-496B-99A2-D6DC4F66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EA2F-5E34-418D-B2FB-115DE174298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E1AB-5AB0-439F-B42E-2E12CBFDD34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sitive &amp; Negative Numbers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ding and Subtract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95280" y="22860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’s The Missing Number 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) – 6 +         =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2971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       +   10      =  –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12   –          =  – 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4876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       –   14     =  – 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5715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22  –          =  – 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5715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914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a revision of number facts you already kn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600200"/>
            <a:ext cx="22860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me New Rule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371600"/>
            <a:ext cx="754380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What happens if you add a negative number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981080"/>
            <a:ext cx="373356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Consider the sum below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28195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505320"/>
            <a:ext cx="82296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Rule 1 : Adding a negative number is just the same as taking away that number. He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4419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4419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4419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4419720"/>
            <a:ext cx="2514600" cy="459720"/>
          </a:xfrm>
          <a:prstGeom prst="rect">
            <a:avLst/>
          </a:prstGeom>
          <a:solidFill>
            <a:srgbClr val="66ff66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Is the same s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4419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5257800"/>
            <a:ext cx="61722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The same rule applies for taking away a posi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5943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 – + 8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943600"/>
            <a:ext cx="198108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Is the same 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 – 8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5943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btracting A Negative Number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066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ve judges have to give a score of between –10 and 10 in a ball throwing competi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133720"/>
            <a:ext cx="434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Here are the judges sc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66688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4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297180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6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274320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274320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274320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3657600"/>
            <a:ext cx="30481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Add up the total scor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3581280"/>
            <a:ext cx="68580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4343400"/>
            <a:ext cx="693432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The rules say that the lowest  score is always remov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4952880"/>
            <a:ext cx="30481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What score is thi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495288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586728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4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579132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6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586728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586728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5181480"/>
            <a:ext cx="39625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Now add up the new tot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5791320"/>
            <a:ext cx="91440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533520"/>
            <a:ext cx="708660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Times New Roman"/>
              </a:rPr>
              <a:t>Consider the sum below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600200"/>
            <a:ext cx="14479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Old sc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1600200"/>
            <a:ext cx="2743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Minus lowest sc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1600200"/>
            <a:ext cx="25905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Equals new sco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586764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Put the numbers in place of the stateme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3200400"/>
            <a:ext cx="68580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3200400"/>
            <a:ext cx="533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Times New Roman"/>
              </a:rPr>
              <a:t>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320040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3276720"/>
            <a:ext cx="45720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3200400"/>
            <a:ext cx="60984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038480"/>
            <a:ext cx="205740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That is to say 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4724280"/>
            <a:ext cx="29718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003b76"/>
                </a:solidFill>
                <a:latin typeface="Times New Roman"/>
              </a:rPr>
              <a:t>4 – (  –  7 ) =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5410080"/>
            <a:ext cx="312444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Which is the same 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6095880"/>
            <a:ext cx="29718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003b76"/>
                </a:solidFill>
                <a:latin typeface="Times New Roman"/>
              </a:rPr>
              <a:t>4 + 7  =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3520" y="380880"/>
            <a:ext cx="769608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Rule 2 : Subtracting a negative is the same as adding the number 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1600200"/>
            <a:ext cx="6400800" cy="5814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Times New Roman"/>
              </a:rPr>
              <a:t>What a  good rule 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b76"/>
                </a:solidFill>
                <a:latin typeface="Arial"/>
              </a:rPr>
              <a:t>Some Worked Example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981080"/>
            <a:ext cx="167616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Calculat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26668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( 1) 6 + - 7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26668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6 – 7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3352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( 2) 4 - - 9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33526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4 + 9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3276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4114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( 3) -3 + - 7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66880" y="41148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-3 – 7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40384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-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4952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( 4) 2 - + 5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49528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2 – 5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49528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57913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( 5) -7 - - 7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5791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-7 + 7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715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b76"/>
                </a:solidFill>
                <a:latin typeface="Arial"/>
              </a:rPr>
              <a:t>What Goes In The Box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2209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1) –  5 + – 6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6 + – 4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4191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8 –  – 7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5257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– 3 – + 8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6095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12 – (– 6 )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1600200"/>
            <a:ext cx="213372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Is the same 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1981080"/>
            <a:ext cx="312408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2971800"/>
            <a:ext cx="312408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3962520"/>
            <a:ext cx="312408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4952880"/>
            <a:ext cx="312408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86400" y="5867280"/>
            <a:ext cx="312408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1981080"/>
            <a:ext cx="160020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5 – 6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3048120"/>
            <a:ext cx="160020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6 – 4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3962520"/>
            <a:ext cx="160020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8 + 7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4952880"/>
            <a:ext cx="160020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3 – 8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5867280"/>
            <a:ext cx="160020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12 + 6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15200" y="2057400"/>
            <a:ext cx="99072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15200" y="3048120"/>
            <a:ext cx="99072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15200" y="4038480"/>
            <a:ext cx="990720" cy="609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15200" y="5029200"/>
            <a:ext cx="99072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15200" y="5943600"/>
            <a:ext cx="99072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6748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019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50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0"/>
                            </p:stCondLst>
                            <p:childTnLst>
                              <p:par>
                                <p:cTn id="52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650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8000"/>
                            </p:stCondLst>
                            <p:childTnLst>
                              <p:par>
                                <p:cTn id="5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950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0"/>
                            </p:stCondLst>
                            <p:childTnLst>
                              <p:par>
                                <p:cTn id="60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6500"/>
                            </p:stCondLst>
                            <p:childTnLst>
                              <p:par>
                                <p:cTn id="61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7:17:04Z</dcterms:created>
  <dc:creator>LT Scotland</dc:creator>
  <dc:description/>
  <dc:language>en-US</dc:language>
  <cp:lastModifiedBy>2000profile</cp:lastModifiedBy>
  <dcterms:modified xsi:type="dcterms:W3CDTF">2008-12-10T12:06:13Z</dcterms:modified>
  <cp:revision>27</cp:revision>
  <dc:subject/>
  <dc:title>Positive &amp; Negative Numbers 2.</dc:title>
</cp:coreProperties>
</file>